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3F446C-5F3E-4165-9333-7387C606F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FC37C9-4E5A-412F-935D-25FB1A51144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08120" indent="-34308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Toksin se vezuje za glikoprotein na površini ćelije domaćina i inhibira sintezu proteina inhibišući aktivnost 60S subjedinice na ribozomima, što dovodi do smrti ćelij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77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04D404-C1E8-4FE0-B387-A0D5AE381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nvazizivni su najčesći uzrocnici akutne dijareje. ETEC = enterotoksicna E.coli – najcesci bakterijski izazivac dijareje u zemljama u razvoju, kao i putnicke dijare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io cholerae = gram negativna fakultativno anaerobna bakterija, infekcije najcesce unosenjem kontaminirane vode,  ribe, skolj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2266E8-8A77-4474-8DB1-14E8FF207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5CC147-C5B1-4BEE-8C5F-A38CD638D21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FD5848-5BD3-4C40-97FC-A20D46A12E1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B4BB93-FEAB-458B-B9DC-AC0F00FC006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FC9F49-E2AC-4DFA-BCC0-FF07B28E5B3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CEF86C-F6DA-4739-922B-81EF5E590C3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7E2BDE-44F4-4E6E-AC3D-2D5BF699D1D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5DBC6C-A585-4162-A9AE-8635F8259AE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25BA-B1E5-4C16-BD6B-104F5E50F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93E2-36E8-4A66-BF45-42927DB51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550A-D88A-4174-8A4F-4EC8DE0D2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E40C-34A3-4EC0-8135-CE809B9DF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E823F-1854-4932-B6F4-59F3D452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F0AF1-DDCA-4A16-A03C-73ED7B16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1C35B-3EA4-40AC-AE91-95F68C79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44231-F2FF-42AD-81ED-DB104EC2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66DD9-F47F-4718-AE3A-C10269E7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EE525-D5B3-4239-8A6C-88F7C905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A05D8-86A7-4DF4-B775-60B7D400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8A7A-F43E-4510-8172-60E904BBC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23C76-3009-4FD5-9374-865CE329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2E9CF-39D1-40B1-8A4A-B8E9A0EB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B66FC-A56F-4E8E-8B95-DBB49C61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B827F-9FAC-4B23-8B7E-DD8551CC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1F349-2F61-441A-9F8C-C1BCA6AD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FD6E-6FEA-4C9E-B949-FF0C44727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3D76-06C1-4743-825C-794492FF0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F184-1F46-430B-87FA-05BCFEDC8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E916-4A22-4159-8360-E4FF1FEE2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2F99-BA90-4454-A6A5-D769AB8BF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B35D-A563-47AC-A731-6E081754D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1778-2AD6-4425-A4D4-EAC817D43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3C32-28CC-47F0-8B77-D32B739FAC0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61A0-6CAC-4723-9F43-1BE36421F0D7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68E1-4EA4-439B-805C-2FEC8643E2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0.png"/><Relationship Id="rId8" Type="http://schemas.openxmlformats.org/officeDocument/2006/relationships/hyperlink" Target="http://upload.wikimedia.org/wikipedia/commons/4/49/Nifuroxazide.svg" TargetMode="External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ИНФЕКЦИЈЕ И ИНТОКСИКАЦИЈЕ ДИГЕСТИВНОГ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Проф. Др Жељко 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акултет медицинских наука Крагујева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Катедра за инфектив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70AF-6814-4611-8445-94BFD06EAFC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пидемиолошке карактеристик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71360" y="1428840"/>
            <a:ext cx="7543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ома честе 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Чешће у земљама са топлом климом (тропи и субтропи) него у земљама умереног климатског поја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натно чешће у срединама са ниским нивоом економске развијености и хигијенског стандар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 овим срединама чешће код мале деце и у топло доба године (изузетак: Yersinia enterocolitica и Rotavir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звор инфекције оболеле особе и клицоноше, животиње и намирнице жив.порекла (јерсиниоза, камплобактериоза, сламонелоз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Фекоорални пут преноса (контакт, вода, храна, му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9083-BAE0-420A-8173-3C5D075BED8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Патогенеза цревних инфекција и интоксикација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1. Степен инвазивности микроорганиз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Не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aphylococcus aureus, Bacilus cereus, Clostridium perfrigens, Vibrio parhaemolyticus, Vibrio cholerae, E.coli, virusi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евазилажење механизама имунске одбране (пре свега неспецифичн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теденције уласка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оштећења епителних ћелија (или минимално оштећење-скраћење микровила, без њиховог убијањ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луче ентеротоксине-поремећај транспорта електролита и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6BC4-2559-4C6E-98EF-24DABD4283F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5520" y="260280"/>
            <a:ext cx="860436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25520" y="2830680"/>
            <a:ext cx="8604360" cy="29019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380880" y="551988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NEINVAZIVNE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ET E.Coli , V.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koji stimulišu lučenje adenil-ciklaza→ propustljivost crevnog epitela,sekrecija  vode i elektrolite u lumen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česte, obilne vodenaste stolice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908000" y="0"/>
            <a:ext cx="60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Patogeneza akutne bakt.dijareje uzrokovane NE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14240" y="500040"/>
            <a:ext cx="78962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higell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n-typhus salmonella, дијарогена Esherichia coli (EPEC, EIEC, EHEC, EAgEC, DAEC), Yersinia enterocolitica, Campylobacter jejuni/col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о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ирање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лобађање ендо- или/и егзотокс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окретање запаљенског одгов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падање епит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еки узрочници продиру кроз епител у субепителни простор (даље размножавањ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лимфоток и регионалне (мезентеријалне) лимфне чворо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крвоток (бактеријемија) са насељавањем других органа (јетра, мозак, плућа и ендокар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Сеп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784F-B52E-41B8-9924-77A5DE7064C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28080" cy="5873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28600" y="5629320"/>
            <a:ext cx="823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INVAZIVNE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: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Salmonella, Shigella, Campilobacter,Yersinia, EP</a:t>
            </a:r>
            <a:r>
              <a:rPr b="1" lang="sr-Latn-C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E.coli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Prodiraju u  mukozne ćelije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razmnožavaju se. Kad se raspadnu, oslobađaju s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dotoksin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(lipopolisaharid sa pirogen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m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svojstvima, PG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), ….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ostećenje epitela, </a:t>
            </a:r>
            <a:r>
              <a:rPr b="1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nekroza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 deskvamacija ćelije (feces sadrži epitel, Le, Er,slu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1590480" y="-54000"/>
            <a:ext cx="59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Patogeneza akutne bakt.dijareje uzrokova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3016080" y="1335240"/>
            <a:ext cx="3095640" cy="48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4" name="Text Box 6"/>
          <p:cNvSpPr/>
          <p:nvPr/>
        </p:nvSpPr>
        <p:spPr>
          <a:xfrm>
            <a:off x="1066680" y="85680"/>
            <a:ext cx="66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KUTNA INFEKTIVNA DIJARE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patogenez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95880" y="1523880"/>
            <a:ext cx="27352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VAZIV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lmonella, Shigella, Campilobacte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ersini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a, 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 E.co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rodiru u mukozne ćelije, razmnožavaju se.                   Kad se raspadnu, oslobađaju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dotoksi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štećenje epitela,  nekroze  i deskvamacij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32448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C C Swis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pitel, Er, Le, slu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01520" y="1989000"/>
            <a:ext cx="2808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koji stimuli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š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sintez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adenil-ciklaz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ekrecija  vode i elektrolite u lumenu 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česte, obilne vodenaste stol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1763640" y="357336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7429680" y="4286160"/>
            <a:ext cx="0" cy="285840"/>
          </a:xfrm>
          <a:prstGeom prst="line">
            <a:avLst/>
          </a:prstGeom>
          <a:ln cap="sq"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6324480" y="1371600"/>
            <a:ext cx="2743200" cy="1625760"/>
          </a:xfrm>
          <a:prstGeom prst="rect">
            <a:avLst/>
          </a:prstGeom>
          <a:noFill/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1571760" y="4071960"/>
            <a:ext cx="0" cy="28728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38240" y="1400040"/>
            <a:ext cx="2735280" cy="1366920"/>
          </a:xfrm>
          <a:prstGeom prst="rect">
            <a:avLst/>
          </a:prstGeom>
          <a:solidFill>
            <a:srgbClr val="c00000"/>
          </a:solidFill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NEINVAZIVNI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T E.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li, V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2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66320" y="999720"/>
            <a:ext cx="75438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ми настанка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мањење апсорпцијске површине (скраћење микров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осмотске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секреција осмотски активних супстанци у цревни лумен 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a, 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уношење сложених маркомолекула-угљених хидрата (лактоза) и белан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ламацијски пролив (простгландини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B95B-1B10-4B09-9D18-4447F5340D3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Клиничка сли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ективни синдром (није обавеза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оминантни клинички симптом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лив-две или више столица ненормалне конзистенције (воденасте или ретко кашас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толица одрасле особе са волуменом&gt; 200г/дан-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ста пасажа течн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једна или више крваво-слузав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Екстраинтестиналне манифестације (шигелоза, јерсиниоза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H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D5D8-E3CE-4D75-B3E7-E2BBF8179EB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микроорганизама на клинички слик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28800" y="1357200"/>
          <a:ext cx="7543800" cy="4937400"/>
        </p:xfrm>
        <a:graphic>
          <a:graphicData uri="http://schemas.openxmlformats.org/drawingml/2006/table">
            <a:tbl>
              <a:tblPr/>
              <a:tblGrid>
                <a:gridCol w="2576520"/>
                <a:gridCol w="4967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нвазив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тицај на клинички сли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Кратка инкубација-неколико с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нагло, без продр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није најчешће повиш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краткотрајна (24-72 часа), најчешће пролази без специфичног лечења (изузимајући колер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Дужа инкубациј-бар 24-48 час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постепено-током 1 до 2 дана (малаксалост, безвољност, мијалгије, мучнина, губитак апети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увек присутна, најчешће преко 38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траје дуже, неопходно леч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Склоност ка компликацијама-бактеријемији и сеп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sp>
        <p:nvSpPr>
          <p:cNvPr id="1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237A-1440-4B7E-9327-D605C465499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Сегментност лезија дигестивног трак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FC46-87A4-491D-8A4A-56BBE761C04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42920" y="857160"/>
          <a:ext cx="8858160" cy="5643720"/>
        </p:xfrm>
        <a:graphic>
          <a:graphicData uri="http://schemas.openxmlformats.org/drawingml/2006/table">
            <a:tbl>
              <a:tblPr/>
              <a:tblGrid>
                <a:gridCol w="2477880"/>
                <a:gridCol w="2251080"/>
                <a:gridCol w="4129200"/>
              </a:tblGrid>
              <a:tr h="892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дигестивног тра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актеристике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1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ксим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ома волуминозне од почетка до кр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ден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јчешће безбој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се несварене хран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ст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луминозне</a:t>
                      </a:r>
                      <a:br>
                        <a:rPr sz="1800"/>
                      </a:b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шаст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е или браон бо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Јако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лева полови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 стол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почетку волум., касније оскуд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вих неколико столица фекулентне, касније фекалије оскудније а повећава се количина слузи, јавља се сукрвица, тенезми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42560" y="1557360"/>
            <a:ext cx="7543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астроинтестиналне инфекције-на 2. месту по учесталости иза респираторних инфекција (у свету дневно оболи око 5 милиона људ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нижим” хигијенским стандардом-водећи узрок морбидитета и морталитета (нарочито деце млађе од 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вишим” хигијенским стандардом-чешће у дечијој популацији, међу сиромашнијим слојевима и имунокомпромитованим пацијентима (АИДС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62AF-6672-414F-A840-EC1A3CFE831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:\Users\Toshiba\Desktop\kako-zaustaviti-proliv.jpg"/>
          <p:cNvPicPr/>
          <p:nvPr/>
        </p:nvPicPr>
        <p:blipFill>
          <a:blip r:embed="rId4"/>
          <a:stretch/>
        </p:blipFill>
        <p:spPr>
          <a:xfrm>
            <a:off x="6791400" y="0"/>
            <a:ext cx="235260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и сегментности лезија на клиничку слик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85840" y="1428840"/>
          <a:ext cx="8572320" cy="42069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000160"/>
                <a:gridCol w="25002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ГИТ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ст микроорганиз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сте патогених 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удац, дуоденум, почетак јејуну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ylococcus au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еум, посебно терминални илеу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-пенетран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mpilobacter jeju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посебно лева половина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ig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terohaemorrha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diffici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3257-C5D5-46F9-9E06-2CC829EE953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Oпшти принципи дијагностик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CF45-E1CE-4CE3-9EC1-53C6A1F2ABD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2960" y="1214280"/>
            <a:ext cx="796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абораторијс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Хематолошке анализе (ККС, хематокри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иохемијске анализе (ЦРП, уреа, креатинин, АСТ, АЛТ, јоногр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14240" y="713880"/>
            <a:ext cx="78962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Бактериолошке претраге столице (копрокулту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инвазивне инфекције (Salmonellae, Campilobacter jejun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онављати (2-3 пута)-сензитивне у 70% (многе бакт. цревне инфекције, чак и до 50%, остају етиолошки недијагностикова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 започињања антибиотск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 неке претраге столице неопходна консултација са микробиологом-специфични услови култивисања (вибриони, Е. Coli, C.jejuni et col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Вирусолошке претраг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Електронска микроско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алаз вирусног антигена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E25E-33B8-4E05-85AD-34A47BE1659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56800" y="785880"/>
            <a:ext cx="775332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бактеријско тровање храном-преглед повраћеног садржаја и остатака инкриминисане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Паразитолошки преглед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`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рострука претрага густе столице на цисте протозоа и јаја хелми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Размаз столице, бојење и фиксација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.histolytica, Criptosporid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великог узорка столице (en masse)-стронгилоидоза (мали број лаборатор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седимента дуоденалног садржаја-ламблијаза, стронгилоидоза, анкилостомијаза, јаја jeтриног мети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0ED4-E9A9-441A-A91F-C9544142CC4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ерологија-амебијаза (тежа цревна или екстраинтестинална-IHA, IF, ELISA), јерсиниоза, кампилобактериоза, клостридијална инфекција (токсин А и Б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ндоскопија (клострдијална инфек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тивни РТГ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хо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157D-1FF5-4BBF-9637-16FA2410CA0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Терапија цревних инфекција и интоксикација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560" y="1628280"/>
            <a:ext cx="75438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ета, ограничени унос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сложени макромолекули (месо, млеко, пресно поврће и во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сти угљени хидрати (барени пиринач, шаргарепу, кромпир, плазма кекс, бели хлеб, бела кифла, кока-кола, сладак чај, слане грисине, посне слане супе, банане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азриво, са смиривањем дијареалног синдрома уводити јогурт, беланце јајета, барену пилетину, постан млади сир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A4CB-CA4D-4914-AB0A-A644DE28654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7" descr="C:\Users\Toshiba\Desktop\преузимање.jpg"/>
          <p:cNvPicPr/>
          <p:nvPr/>
        </p:nvPicPr>
        <p:blipFill>
          <a:blip r:embed="rId5"/>
          <a:stretch/>
        </p:blipFill>
        <p:spPr>
          <a:xfrm>
            <a:off x="5796000" y="981000"/>
            <a:ext cx="28195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Цревна течност у односу на крвну плазму садржи сличну конц Na али 4-5 пута већу конц. К и двоструко већу конц. бикарбо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ежак дијареални синдом: губитак воде, Na, Cl, бикарбоната (ацидоза) и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ероралн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слађен чај, слана посна супа, пиринчана посоље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редства за пероралну рехидратацију (Nelit, Rehidromix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”Dacca” раствор: NaCl+NaHCO3+KCl 5:4:1 (kol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7718-5643-4CDF-AFEB-BBE268AFFC6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венск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олошки раствор (0,9% Na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укосалин (0,9% NaCl+2,5% Gl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Рингеров раст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8,3% NaHCO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Интез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Довољ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ерење артеријског крвног притиска, пулса, диуре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3D88-172D-4942-9352-635D61AD9BA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ontent Placeholder 5" descr="Шта лекова спречава путници Пролив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00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928440" y="1571400"/>
            <a:ext cx="771516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3. Медикаментоз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еме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у повраћеном садржају нема остатака несварене хране-алиментарна интикс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алгетике и спазмолитике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давати никада 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примарно хируршком обоље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хируршкој компликацији примарно инфективне болести органа за вар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акутне инфекције ГИТ-а не изазивају тако јаке болов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дијароици (лоперамид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икада код инфективног пролив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62BF-ECAF-4046-9F70-DB3F1E895CB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071360" y="928800"/>
            <a:ext cx="75438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микроб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иљев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е смањење симптома и скраћење трајањ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и престанак исзлучивања узрочника (ерад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венција 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це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ла деца (млађа од 3 месе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тарији пацијенти (&gt;6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мунокомпромитоване 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вазив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4DA3-CFC7-4508-83A7-FA973294828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ца узраста испод 5 година годишње оболе 5-6 пута од атака инфективног пролива (неразвијени краје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ваке године дијареја је узрок смрти око 760.000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ареја је узрок смрти око 1,7 милиона особа годиш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авни узрок потхрањености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FCBF-03C7-4788-8044-C81A58C9D07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65F8-790E-4789-BEB7-072899796F0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2057400" y="914400"/>
            <a:ext cx="3581280" cy="2286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14840" y="317160"/>
            <a:ext cx="70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ffff66"/>
                </a:solidFill>
                <a:latin typeface="Tahoma"/>
              </a:rPr>
              <a:t>Антимикробни лекови који се користе у лечењу инфективних дијареја</a:t>
            </a:r>
            <a:r>
              <a:rPr b="0" i="1" lang="en-US" sz="1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77800" y="893880"/>
          <a:ext cx="8286840" cy="5324400"/>
        </p:xfrm>
        <a:graphic>
          <a:graphicData uri="http://schemas.openxmlformats.org/drawingml/2006/table">
            <a:tbl>
              <a:tblPr/>
              <a:tblGrid>
                <a:gridCol w="2589120"/>
                <a:gridCol w="2586240"/>
                <a:gridCol w="3111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лтернатив</a:t>
                      </a: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и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леко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Шигел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абл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sitetraciklin 2,5 g у току 12 са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алмонелозн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табл. или Amoksicilin 3x500mg/дан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фекције изазване EIE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2x2 табл. или Gentamicin 1mg/kgtt/8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Јерсинијски ентеро</a:t>
                      </a: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lkin 2x100mg, Gentamicin 1mg/kgtt/8 сати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ил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klin 300mg једнократ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 или Ciprofloksacin 1g једнократно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. или Hloramfenik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мпилобактер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ј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к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ritromicin 4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0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5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а или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zitromicin 1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3 дана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Gentamicin 1mg/kgtt/8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ати  и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сеудомембранозни к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ankomicin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абл.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25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etronid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abl.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3EE4-50E6-439A-8D4E-92E7B5E5ACD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868320" y="1164600"/>
            <a:ext cx="80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Антипараз</a:t>
            </a:r>
            <a:r>
              <a:rPr b="0" i="1" lang="sr-Latn-CS" sz="1800" spc="-1" strike="noStrike">
                <a:solidFill>
                  <a:srgbClr val="ffff66"/>
                </a:solidFill>
                <a:latin typeface="Tahoma"/>
              </a:rPr>
              <a:t>ит</a:t>
            </a: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ни лекови који се користе у лечењу инфективних дијаре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6000" y="2343240"/>
          <a:ext cx="7791480" cy="2425680"/>
        </p:xfrm>
        <a:graphic>
          <a:graphicData uri="http://schemas.openxmlformats.org/drawingml/2006/table">
            <a:tbl>
              <a:tblPr/>
              <a:tblGrid>
                <a:gridCol w="3451320"/>
                <a:gridCol w="434016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мебијаза (амебни колити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75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+ Paromomicin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10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амбли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ја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алантидија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ронгилоид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iabendaz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3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Цревни антисептици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ифуроксазид (Ентерофури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риват 5-нитрофу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ам деловања није у потпуности разјашњ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нтимикробнe и aнтипаразитарнe oсобине нифуроксазидa, вероватнo потичу oд нитрo-групe </a:t>
            </a:r>
            <a:r>
              <a:rPr b="0" lang="mk-MK" sz="2400" spc="-1" strike="noStrike">
                <a:solidFill>
                  <a:srgbClr val="ffffff"/>
                </a:solidFill>
                <a:latin typeface="Calibri"/>
                <a:ea typeface="Calibri"/>
              </a:rPr>
              <a:t>(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ојa je jako eлектрон-реакт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ерапија  нифураксозид-ом  се нe препоручуje дуже oд 7 дан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Kaпсуле сe нe препоручују деци млађoj oд  12 г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B6A-44A5-4C52-98D9-790437933FF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7"/>
          <a:stretch/>
        </p:blipFill>
        <p:spPr>
          <a:xfrm>
            <a:off x="5715000" y="71280"/>
            <a:ext cx="3840120" cy="2408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File:Nifuroxazide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857160"/>
            <a:ext cx="297972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66880" y="68040"/>
            <a:ext cx="561672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Антимикробни спектар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Rounded Rectangle 1"/>
          <p:cNvSpPr/>
          <p:nvPr/>
        </p:nvSpPr>
        <p:spPr>
          <a:xfrm>
            <a:off x="3124080" y="4038480"/>
            <a:ext cx="5181840" cy="1828800"/>
          </a:xfrm>
          <a:prstGeom prst="roundRect">
            <a:avLst>
              <a:gd name="adj" fmla="val 16667"/>
            </a:avLst>
          </a:prstGeom>
          <a:solidFill>
            <a:srgbClr val="fbfbfb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am </a:t>
            </a:r>
            <a:r>
              <a:rPr b="1" lang="sr-R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позитивне бактерије</a:t>
            </a:r>
            <a:r>
              <a:rPr b="1" lang="mk-MK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reptococcus pyoge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aphylococcus pyog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ounded Rectangle 2"/>
          <p:cNvSpPr/>
          <p:nvPr/>
        </p:nvSpPr>
        <p:spPr>
          <a:xfrm>
            <a:off x="762120" y="1219320"/>
            <a:ext cx="5410080" cy="2361960"/>
          </a:xfrm>
          <a:prstGeom prst="roundRect">
            <a:avLst>
              <a:gd name="adj" fmla="val 16667"/>
            </a:avLst>
          </a:prstGeom>
          <a:solidFill>
            <a:srgbClr val="757575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m</a:t>
            </a:r>
            <a:r>
              <a:rPr b="1" lang="mk-MK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sr-R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негативне бактер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scherichia 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almon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hig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972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о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икроорганизми који дати у одређеној дози, обезбеђују здравствену бенефит домаћину (СЗ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е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есварљиве супстанце (углавном олигосахариди) које стимулишу раст и активност пробиотика (углавном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a), те са њима имају синергистички учинак. Најпознатији је инулин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биотичке врсте компетитивно инхибирају стварање токсичних супстанција и раст мање пожељних врста, такмичећи се за простор и хра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A997-9403-4E93-9424-5FDF4DEB165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7" descr="C:\Users\Toshiba\Desktop\probiotici-e-prebiotici.jpg"/>
          <p:cNvPicPr/>
          <p:nvPr/>
        </p:nvPicPr>
        <p:blipFill>
          <a:blip r:embed="rId3"/>
          <a:stretch/>
        </p:blipFill>
        <p:spPr>
          <a:xfrm>
            <a:off x="1547640" y="0"/>
            <a:ext cx="604872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56800" y="333000"/>
            <a:ext cx="77533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садашња истраживања указују да пробиотици не могу заменити уништену нормалну цревну флору, међутим као привремене колоније могу овављати исте функције као природна флора, дајући јој времена да се опора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чке врсте се потом убрзано замењују нормалном цревном фл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коришћени пробиотици су различите врсте рода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um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дебелог црева, изоловано 30 врста) и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actobacillu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црева и вагине, изоловано 56 врста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ifidum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re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infant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longu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acid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case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стале врсте: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coccus, Saccharomyce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(probiotički kvasac),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Enterococcus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Јогурт-бактеријe, aли без прибиотичког ефект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bulgaric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Streptococcus therm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FEF7-A8DD-4682-BCF9-6DCF6E1F4C3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Већина пробиотских препарата садржи 1.000.000.000 бактерија на грам или милилит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ично је препоручена доза: једна капсула дне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ного је важнији квалитет бактерија у препарату, јер оне морају да преживе деловање желудачне и жучних киселина, као и алкални садржај у дуоденуму, како би стигле до црева и биле делотвор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ке је потребно узимати најмање 5 пута недељно како би се одржао њихов утицај на цревну фл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9412-3F28-4309-8F03-1C83ACF0F34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Calibri"/>
              </a:rPr>
              <a:t>НЕИНВАЗИВНЕ ИНФЕКЦИЈЕ ДИГЕСТИВНОГ ТРАКТ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ОВАЊЕ ХРАНОМ (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Intoxicatio alimentaris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ношење хране или воде, контаминиране патогеним микроорганизмима или њиховим токс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ичком сликом доминирају гастроинтестинални симптоми и знаци (повраћање, мучнина, 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ђе, симптоми и знаци од стране гит блааги или одсутни а доминирају симптоми и знаци од стране других органских система (ЦНС-ботулиз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одишњи број оболелих у свету-6.000.000 до 80.000.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узрочници: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Staphylococcus aureus, Bacilus cereus, 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A935-E238-44A8-ABC0-7E36E229F39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Стафилококно тровање хра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гзотоксини Staph. Aureus-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7 серолошких типов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афилококног ентеро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теини ма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лекулск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порни на дејство желудачног и цревних со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дносе повишену температур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стају и пос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30mi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00</a:t>
            </a:r>
            <a:r>
              <a:rPr b="0" lang="sr-Latn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ичка обрада намирница не неутралише његову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8F49-7E96-4A60-AF03-16D662B96B4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4140360" y="393372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л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деална подлога за рамножавање St.aureusa и продукцију егзотоксина-млеко, јаја, месо (млевено) тј. подлоге погате уг.хидратима и проте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тровања-сладолед, колачи, млевено мес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-клицоноше или пацијенти са носилаштвом узрочника у носу или на кож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ично се ради о контаминацији већ припремљене хране (мада ни термичка обрада намирница не спречава појаву тровања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FEC6-937A-47C9-BAF3-D9DB53DBA7C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2" descr="C:\Users\Toshiba\Desktop\373560.jpg"/>
          <p:cNvPicPr/>
          <p:nvPr/>
        </p:nvPicPr>
        <p:blipFill>
          <a:blip r:embed="rId7"/>
          <a:stretch/>
        </p:blipFill>
        <p:spPr>
          <a:xfrm>
            <a:off x="5916600" y="0"/>
            <a:ext cx="322740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66320" y="500040"/>
            <a:ext cx="75438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AE28-6B55-4747-9FB6-E74B085FCCD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1071720"/>
          <a:ext cx="6096240" cy="5459400"/>
        </p:xfrm>
        <a:graphic>
          <a:graphicData uri="http://schemas.openxmlformats.org/drawingml/2006/table">
            <a:tbl>
              <a:tblPr/>
              <a:tblGrid>
                <a:gridCol w="1619280"/>
                <a:gridCol w="1571760"/>
                <a:gridCol w="1380960"/>
                <a:gridCol w="1524240"/>
              </a:tblGrid>
              <a:tr h="5558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РОЂ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СТЕЧ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хуморал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елулар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Киселост жел.садрж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е ефекторске ћел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Антите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Б-l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-лимфоц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отилит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 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и ефекторски протеин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родукција слу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иток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анкреас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Запаљенс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реак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Билијар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фл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sp>
        <p:nvSpPr>
          <p:cNvPr id="12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ханизам дејства стаф. ентеротокси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родук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IL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еристал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-a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ктивација центра за повраћање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стимулацијом симпатичких влакана n.vagus-а у горњим партијама дигестивног тракта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ки типови ентротоксина  блокирају ресорпцију електролита и воде из цревног лумена, узрокујући пролив (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BCD2-D6F8-40E2-8DB4-A0CE27BE912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71280" y="260280"/>
            <a:ext cx="75438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1-12 сати (најчешће до 6 часо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гли поче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ређе пролив, повишена телесна температура се по правилу не јав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Лабораторијски  налази (најчешће нормални, знаци дехидрат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икробиолошке претраг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етекција ентеротоксина у остацима инкриминисане хране и повраћеном садржају (ретко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7901-1E68-4A6F-9A0C-EAEF45F4951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имена антибиотика није индикова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806E-D48C-4018-A427-14DBF7E84B2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Bacilus cer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еробни, спорогени, Г+ бац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Земљиште, природне вод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широм света, сирове намир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одукује еметички и дијареални тип 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Еметички тип тровања (кувани пиринач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Краткотрајна инкубација (1-6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Упорно повраћање, грче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2 до 10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Дијареални тип тровања (поврће, сосеви, пудин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ужа инкубација (6-14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Обилне, водене столице, праћене грчевима у трбуху (ретко повраћа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16-48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12A8-3449-4C4D-A857-7488D2E11C4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5" descr="Ð¡ÑÐ¾Ð´Ð½Ð° ÑÐ»Ð¸ÐºÐ°"/>
          <p:cNvPicPr/>
          <p:nvPr/>
        </p:nvPicPr>
        <p:blipFill>
          <a:blip r:embed="rId4"/>
          <a:stretch/>
        </p:blipFill>
        <p:spPr>
          <a:xfrm>
            <a:off x="5796000" y="0"/>
            <a:ext cx="334800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B90B-894E-4B0E-87A2-E8E78EECAF2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3" descr="C:\Users\Toshiba\Desktop\Clostridium-perfringens-cells.jpg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1341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115640" y="620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лигатни анаероб (може издржати дејство кисеоника и до 72 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минално поставњене споре-отпорне на кување у кључалој води у трајању од 10  мину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сте великом брзином на 15-50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а тровања или епидемије (кантине у фабрикама и војсци, масовна окупља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серотип А, ређе C и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Јесен или зимски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рана која је охлађена без наглог замрза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66320" y="333360"/>
            <a:ext cx="754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нтеротокс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телне ћелије танк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Ћелијска смр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интрацелуларних молекула у лумен црева (Na, Cl, протеини, 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8-24 ча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одени проливи (2-4 столице/днев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рчевити боло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тко повраћање и 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6E7A-AF4E-4A16-843E-69B7905F310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brio parahaemolyth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алофили (висока концентарција соли)-конзумирање морских  животињ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нутар исте врсте могу да продукују различите ентеротоксине, цитотоксине и хемолизине-разноликост клиничке сл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и: остриге, сардине, крабе, лигње, поврће контаминирано сланом морском водом, мор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: најчешће термички необрађена (али и обрађена)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лавни проблем: недовољно брзо постигнуто замрз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B9E9-48E0-4B52-B8C2-463B61F12BF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06632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ксплозивни, водени проливи→предшокно стање Нај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лови у трбуху, мучнина, повраћање, главобоља (код већ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хтавица и повишена температура (ређ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зентерични синдром са крваво-слузавим  столицама и лезијом слузнице дебелог црева веома рет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а анк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и 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олација ентеротоксина из повраћеног садржаја, столице, остатака инкримисане хране (не ради се рутин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558C-A95F-4C86-AEB2-3D755755C2C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C:\Users\Toshiba\Desktop\cholera2.jpg"/>
          <p:cNvPicPr/>
          <p:nvPr/>
        </p:nvPicPr>
        <p:blipFill>
          <a:blip r:embed="rId1"/>
          <a:stretch/>
        </p:blipFill>
        <p:spPr>
          <a:xfrm>
            <a:off x="0" y="0"/>
            <a:ext cx="3348000" cy="2133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755280" y="260280"/>
            <a:ext cx="78548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представља најтежу секреторну дијареју, која се у најтежим облицима може испољити дехидратацијом, хиповолемијским шоком и смртним исх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Vibrio cholerae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G-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акривљени бацил, покре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спороге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ултативно анаеробни, једнополарна флаг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становници површинских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рста патогено за љу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AD88-B3BD-4DB4-A63D-7B8C2B1F070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Picture 2" descr="C:\Users\Toshiba\Desktop\bakt_1.jpg"/>
          <p:cNvPicPr/>
          <p:nvPr/>
        </p:nvPicPr>
        <p:blipFill>
          <a:blip r:embed="rId5"/>
          <a:stretch/>
        </p:blipFill>
        <p:spPr>
          <a:xfrm>
            <a:off x="6054840" y="0"/>
            <a:ext cx="308916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оматски-О и флагеларни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г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односу на соматски антиген: серогрупа О1 и О139 (једини узрочници коле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бриони других серогрупа-узрокују колери слична обољења (проливи блажег интезитета, спорадичног каракте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ibrio cholerae O1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aw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Inab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Hikojima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соматском О антиген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биолошким особинама-два биотипа: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asica, El-Tor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(блажа клиничка сл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алофилне бактерије-високе концентрације соли (полуслане воде ушћа великих р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4FB9-93FA-4D5B-8908-D11B5C47787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фокално лимфно ткиво (крајници,Пајерове плоче, мезентеријалне лимф.жл.,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апендик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дифузна седишта-неорганизовани делови (ламина проприа и епите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B625-94EA-4823-B121-AD5F83A8D6F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2786040" y="600084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скључиво хума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(ређе), епидемијски и пан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-оболела особа или клицоноша (жучна кеси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екоорална инфекција (контамиирана вода, храна, контак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актори који фаворизују инфекцију (смањење желудачног ацидитета): гастритис, употреба антацида блокатори H2 рецептора, ресекција желу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 неендемична подручја колера се најчешће импортује као путнички проли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5668-B5CC-4EF7-B593-9385BD9514B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онизација танког црева и продукција ентеротоксина (везивањем помоћу п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токсин: 2А и 5Б подједи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-подјединица→везивање токсина за ганглиозид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M1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 површини енте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 компонента: А1 и А2 подједи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1 подјединица-продире у ћелију и активира аденилат-циклаз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 резултује продукцијом цикличног аденозин-монофосфата (цАМП)→блокада апсорпције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Na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стимулација секреције хлорида и воде у лумен цре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617E-4928-4468-9906-308C31CE8F4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лна секреција изотоничне течности у лумен црева, која превазилази ресорптивни капацитет дебел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лике количине течности из васкуларног корита и екстрацелуларног простора, као и бикарбоната→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хиповолемијски шок и метаболичка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уги, термолабилни токсин-повећана пермеабилност цревне слузниц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zonula occludens toxin)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оштећујући “тесне везе” епителн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 до 3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Често асимптоматска или као баналн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42B7-8846-45E9-97A6-4A6889DC964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ол у трбуху, гађење, малаксал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чне, фекулентне, смрдљив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јективно: лако дехидратисан пацијент, адинамичан, очуваног крвног прити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течности: 2-5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: те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и гастроенте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е учестале, воденасте, обилне, пражњење безболно и експлози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а-безбојна, личи на пиринчану воду, базне реакције, отужног мириса ( на риб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0F3A-4CE8-4528-BFDB-19F920249E7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течности: 8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јективно: изразито адинамичан, хипотензиван, олигури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ffffff"/>
                </a:solidFill>
                <a:latin typeface="Calibri"/>
              </a:rPr>
              <a:t>Алгидни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40-50 столица дневно (дневни губитак 15-20 литара воде тј. преко 10% телесне теж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раћање, грчеви у мишићима, анурија, хипотен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ешка дехидратација, хиповолемијски шок, анурија,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Facies hipocratica”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силарна температура до 3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ктална до 4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тих “афоничан” глас-”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ox choleric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ахикардија, мукли тонови, убрзан, филиформан пулс, немерљив крвни притисак, увучен “чунаст” трб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C818-AF99-4126-92DA-982FC6F89CC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и подац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бораторијс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ематолошк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ct↗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Le↗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иохемијск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K↘, Na ↘, Cl ↘,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ет.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идоз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ренална азотемиј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пергликем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икроби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ке сакупити што пре, у раној фази болести (пре примене антибиот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ц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олица, повраћени садржај, брис ректума, контаминира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34E3-291B-4B85-80EA-01781B79E2C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06632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анспортне подлог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о није могуће брз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o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опремити материјал до лаборатор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o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гаћена алкална пептон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5-6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убкултивација на селективн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TCBS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крвни аг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8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ипичне коло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ст аглутин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ливален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O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антисерум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еглед столице микроскопом у тамном пољу (покрети вибрио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рологија-од 7-10 дана (ограничени значај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E7ED-B424-4C4A-9F62-47E836D0BAB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Зелен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parahaemolyticusa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жут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cholerae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(TCBS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подлога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114800"/>
          </a:xfrm>
          <a:prstGeom prst="rect">
            <a:avLst/>
          </a:prstGeom>
          <a:ln w="0">
            <a:noFill/>
          </a:ln>
        </p:spPr>
      </p:pic>
      <p:sp>
        <p:nvSpPr>
          <p:cNvPr id="32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r os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кши облици дехидратациј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4g NaCl+4g NaHCO3+1g KCl+20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лукозе+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1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од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Интравенским путем-2 литра за 30 мин. код одрас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Најчешће се корис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Ringer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 лактат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HCO3  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-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лактат 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DACCA” : NaCl+NaHCO3+KCl  5:4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биотска терапија (секундарна)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doxycyclin 300 m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bactrim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ли еритромицин (деца)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iprofloksacin 1g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BA15-9574-4D16-98DF-B18B9EB7110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езбеђење здраве, пијаће в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илна диспозиција људских излу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акцинација (путовање у ризична подруч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оматски антигени два најважнија сер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фикасност: 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рајање заштите: 2-5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5889-2A54-4E60-B9BA-7EBCA5A7088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360" y="356760"/>
            <a:ext cx="75438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окал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Пајерове плоче се налазе у танком цреву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терминални илеум), величине су 1-3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састоје  се од Б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Т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i="1" lang="sr-R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стоцита, полиморфонуклеара и плазм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 површини П.плоча налазе се М ћелије, одговорне за презентацију 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Дифуз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епителни леукоцити, леукоцити у ламини пропр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уче интерлеукине 1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  <a:ea typeface="Calibri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, 1 β, 4, 5, 6; гама интерфер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Д8 супресори (85%), ЦД4 помагачки (1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6553-F37D-44E8-99F2-3870C5E0138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већи део нормалне флоре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одређеним условима изазивају 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словно патогене бактер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ј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“o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ртунисти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G-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ултативно анаеробни бац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јединачно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паровим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правилн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ру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имбрије или пи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лога у адхезиј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 стварају капсул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ки сојеви 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EM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икрокапсул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CBD0-B4EE-46D3-A800-FC4967F9D4E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971280" y="333360"/>
            <a:ext cx="7543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патоге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P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Ентеротоксична</a:t>
            </a:r>
            <a:r>
              <a:rPr b="0" lang="sr-Latn-RS" sz="2400" spc="-1" strike="noStrike">
                <a:solidFill>
                  <a:srgbClr val="ff0000"/>
                </a:solidFill>
                <a:latin typeface="Calibri"/>
              </a:rPr>
              <a:t> (ET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инвазив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I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хеморагич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H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агрегатив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Ag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адхерентн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(EAd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узрочник путничког пролива у развијеним земљ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олив одојчад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але дец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емљама у разво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ут пренос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→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фекал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-o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л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тактни пу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еца у болницам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таминирана хра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583E-00E0-4757-89E1-0BDD4B7009C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зивањ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ETEC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а специфичне рецептор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ревној слузниц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тори колон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CFA I, II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егзотоксин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(e</a:t>
            </a:r>
            <a:r>
              <a:rPr b="0" lang="sr-R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нтеротоксин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олабил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остабил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Te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молабилни токси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LT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казује сличнос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рмаколошк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имунолошк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а токсином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vibria choler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активира га температура од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60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B287-E68B-4672-9A8C-FB1681BEBA7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4140360" y="1916280"/>
            <a:ext cx="485640" cy="576000"/>
          </a:xfrm>
          <a:prstGeom prst="downArrow">
            <a:avLst>
              <a:gd name="adj1" fmla="val 50000"/>
              <a:gd name="adj2" fmla="val 2965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66320" y="764640"/>
            <a:ext cx="754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T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 састоји од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-субјединице</a:t>
            </a:r>
            <a:r>
              <a:rPr b="0" lang="en-U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bindin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=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зивањ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зивањ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ецифичн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ецепторе ентероцит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1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англиозид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лаз токсина у ће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ccff"/>
                </a:solidFill>
                <a:latin typeface="Calibri"/>
              </a:rPr>
              <a:t>-субјединица</a:t>
            </a:r>
            <a:r>
              <a:rPr b="0" lang="sr-Latn-CS" sz="2400" spc="-1" strike="noStrike">
                <a:solidFill>
                  <a:srgbClr val="66ccff"/>
                </a:solidFill>
                <a:latin typeface="Calibri"/>
              </a:rPr>
              <a:t> A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activat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тива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лази у цитоплазму енте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имулација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денила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икл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већа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центр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c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злучивање воде и електролит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цревни лумен →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E391-8123-49FE-8653-BFEF82418BF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71280" y="475920"/>
            <a:ext cx="75438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лабост, 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фузан пролив, зелено-жуте боје, мирише на труле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ма крви и гно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прокул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оказивање ентеро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ЛТ-метод културе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-оглед in v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оказивање фактора колон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емаглутин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ерологија (реакција аглутин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F32A-1641-4B99-B2D2-539FB7BE9DC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РУСНИ ПРОЛИ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30-40% акутних инфективних пролива узроковано вирус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ују акутни гастроентерити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лно се излучују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огу се идентификовати путем електронске микроско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није специфична за поједине узрочн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DB33-73D7-4CFA-8998-EC68CBF05C6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Рота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важнији узрочници тешких инфективних пролива код деце у читавом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Reoviridae</a:t>
            </a:r>
            <a:r>
              <a:rPr b="0" i="1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 ЕМ облик точка (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rota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ча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едам група (према протеинској структури); А, Б и Ц-патогене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10 серотип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вуда у свету (неразвијене и развијене земљ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 пролива код 35-40% хоспитализоване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одишње оболи 140 милиона деце, умре 1 мили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е обољевају деца од 6 месеци до 2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C029-BEF4-4D97-BB53-132D318CC4A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лики број инфекција протиче 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мерени климатски појас-чешће з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је у педијатријским болница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Столицом се излучује велика количина виру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Вирус јако отпоран у спољашњој среди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Мала инфективна доза (10 вири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лучивање вируса столицом-непосредно пре појаве првих симптома до 7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4884-3BC6-4618-AA51-ED69CCD430C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042560" y="259920"/>
            <a:ext cx="75438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ење епителних ћелија цревних рес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апсорптивне способности з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Na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ење четкастог покрова-губитак активности хидрол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ећана пропустљивост цревног зида за макромолекуле-алергијске реакције на 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 1-7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раћање, повишена температура, пролив (водена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хидратација, метаболичка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компромитовани-пролив дуготрајан и теж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фицит лактазе- може трајати 14-21 д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1436-D6D3-403C-B54B-441297F6F00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дефицијентне особе-хронич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лектронска микроскопија-карактеристичан изглед то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олација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еролошка детекција А антигена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PCR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 (одојчад не прекидају доје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53B3-D81C-44B8-848A-E302560B4A5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360" y="-214200"/>
            <a:ext cx="75438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т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07DC-CCBE-4AAB-A6C9-4612B4ACFE5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71720" y="500040"/>
          <a:ext cx="7543800" cy="593424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актер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ig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n-typhus salmon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ијарогена </a:t>
                      </a: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sherichia coli (EPEC, ETEC, EIEC, EHEC, EAgEC, DA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mpylobacter jejuni/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eromonas hydroph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lesiomonas shigelloi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dwardsi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lostridium diffic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alococcus aureus-e</a:t>
                      </a: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теротоксиг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perfrig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Адено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чно узрокују пролив код мале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ују око 10% инфективних пролива деце млађе од 2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начајан број асимптоматских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ком читаве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 (контакт, не храна-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роноштво до 14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олидан постинфекцијски имун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9BB5-6DD2-446E-8DE6-B50519818B9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лична ротавирусном гастроентеритису-блажа и дуже тра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3-10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олив ( и до 14 дана): водена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ишена температура, каша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ехидратација (не као код ротавиру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етекција вирусног Аг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ултивација вируса (не рутин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имптоматс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D39-0954-4F1B-A161-061C444DE60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алци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фекције присутне у читавом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но детињ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главном асимптоматс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је-вртићи, старачки домови, шк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езависно од годишњег д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Мала дец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благи гастроентеритис, фебрилност, респ. Симптоми (ређ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Одрасл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конзумација шкољки или пијење контаминиране воде-грчеви, повраћање, воденасти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29D0-1755-46C4-8937-E368A6B05DD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Норвалк и њему сични 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арија деца, читаве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рло контагиозан вирус, инфективна доза&lt;100 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ује проксимални део танког црева, скраћује рес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алапсорпција лактозе и м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7A50-67D6-4062-8995-B141095E5B7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1-2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рчеви, воденасте столице, повраћ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ишена температура, мијалгије, главобоља (1/2 оболели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текција вирусног Аг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електронска микроско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PCR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1AF8-987B-4000-BF31-496A5204CA3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66320" y="1052280"/>
            <a:ext cx="75438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Астро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Широм св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ала деца и старе 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лажи, воденасти проливи (2-3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повишена температура, грче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ести код ХИВ+ и пацијената са трансплантираним орга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-ИЕМ, детекција вирусног Аг, серологија, PC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ронавируси, парвовирус, ентеровируси....?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2AB7-66E6-487F-9469-A439878463F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УТНИЧКИ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утни дијареални синдром који се јавља у једне трећине путника током прве недеље путовања или непосредно по повратку ку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тори који утичу на појав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Старосна доб (&lt;30 годи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Хипо- или ахлорхидр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Имуносупрес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Ранија појава пролива приликом пут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Чешћи при путовањима у тропске крајев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3E47-5699-4395-A7A1-51F1655D927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токсичн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Шигеле, салмонеле, кампилобактер, вибрио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Lambli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ntamoeba histolytic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Strongiloides sterc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ryptosporidium, Rotavirusi, Enteroviru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соко ризична подручја (20-50%): Јужна Америка, Африка, Средњи исток, 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ручја средњег ризика (10-20%): јужна Европа, Медитер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ручја ниског ризика (&lt;8%): северна Европа, Канада, САД, Аустралија, Нови Зела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4AB1-FA90-4B34-9B18-ABE031B2953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нзумирање локалне хране (термички необрађено поврће, месо и морска храна), употреба леда, непастеризованог млека и неољуштеног во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чиње најчешће 2-3 дана по повратку са путо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олив (2-3 столице/дневно), некада и преко 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олице су обилне и водене, праћене експлозивним пражњ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тходи краткотрајни бол у трбуху (грч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може и да варира (зависно од узрочн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756A-B211-41D0-9513-55B0B90250D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имптоматс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рт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биотска терапија (краткотрајна, 1-3 дана-бактрим, ципрофлоксац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бегавање сумњиве воде, хране и напит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ере личне хигиј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вентивна примена пробиотика, цревних антисептика и других антимикробних ле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акцинација (евентуал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5ABC-4601-4A05-B501-1802A0750CE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28800" y="142920"/>
          <a:ext cx="7543800" cy="62643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нтеров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walk-виру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ci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en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отоз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yptospori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spora bel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Г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љив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ndida sp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  <a:ea typeface="Calibri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  <a:ea typeface="Calibri"/>
                        </a:rPr>
                        <a:t>арази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mblia inestina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ichinela spiralis, Аscaris lumbricoides, Strongiloides stercoralis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0F57-0AD9-48AD-8E2D-7F9506F5CBE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3C6D-18B1-4E0D-9D04-292A81F2E86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03400" y="5011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66"/>
                </a:solidFill>
                <a:latin typeface="Tahoma"/>
              </a:rPr>
              <a:t>Диференцијална дијагноза дијареалног синдрома</a:t>
            </a:r>
            <a:r>
              <a:rPr b="0" i="1" lang="en-US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71720" y="1428840"/>
          <a:ext cx="7931160" cy="4968720"/>
        </p:xfrm>
        <a:graphic>
          <a:graphicData uri="http://schemas.openxmlformats.org/drawingml/2006/table">
            <a:tbl>
              <a:tblPr/>
              <a:tblGrid>
                <a:gridCol w="7931160"/>
              </a:tblGrid>
              <a:tr h="49942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актеријске, вирусне, паразитарне, гљивичне инфекције цревне слуз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Упална жаришта у близини црева (апендицитис, аднекситис, пијелонефритис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Пролив као општи симптом у току генерализованих инфек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Друге болести дигестивних орг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. Пролив због хемијског деловања (лаксанси, лекови, отр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. Пролив код општих метаболичких поремећаја (уремија, дијабетес, хипертиреоза, Адисонова болест, пелагра и сл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1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Dr med</cp:lastModifiedBy>
  <dcterms:modified xsi:type="dcterms:W3CDTF">2022-08-30T21:51:41Z</dcterms:modified>
  <cp:revision>469</cp:revision>
  <dc:subject/>
  <dc:title>Slide 1</dc:title>
</cp:coreProperties>
</file>